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EADF00-7D90-4187-B4F1-A60FDCA7B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C8052D-0BB3-4490-B194-CA20D92A3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0B770F-9F3B-492C-A771-A5D462811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CD399D-5B66-4590-BA4B-414A58877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04C77-8DD5-407D-B675-2E91BDEE8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69C5A-750E-4C0C-9B10-713577CFB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3C853-51B6-48C8-A36B-4D6DE0CA8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0A45D-C40E-4554-8461-107240C74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87826-1745-4E9A-A9B4-80AFC803D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8F98A-E969-4C2A-BC90-F2C751E9E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09E9A-2B2A-43DB-A7DB-DEAFD2196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86758A-F230-4F2F-B788-E54A11E22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E4BDC-C507-401F-B6AC-D6586F186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D348B-A26B-4FD0-8A2D-8559E037D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1EA0E-28FA-44E1-930E-F4A0B73D6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9CA94-F86E-49C6-B6F6-1917191C1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1F846-B6F1-4E76-B765-C18E3DA0E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0E0551-41B4-4508-BE8A-93DEF4AA2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5F71B1-9C53-47AD-9622-4696F269B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81E2BE-B1CB-4B85-A80A-DC9AABD4C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CA048D-D3D1-46E6-81A6-8BFC4206F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72E777-3206-4B41-AF57-27A723E6A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ED1A38-FEA2-4FF8-B352-904CA252C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1A0C25-689D-48A2-84BD-A723CABA5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61DD1-5B19-4EF7-814F-C27F4548E8C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e0000"/>
                  </a:gs>
                  <a:gs pos="100000">
                    <a:srgbClr val="8c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e0000"/>
                  </a:gs>
                  <a:gs pos="100000">
                    <a:srgbClr val="8c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20000"/>
                  </a:gs>
                  <a:gs pos="100000">
                    <a:srgbClr val="8c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8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c0000"/>
                  </a:gs>
                  <a:gs pos="100000">
                    <a:srgbClr val="7a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6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c1f00"/>
                </a:gs>
                <a:gs pos="100000">
                  <a:srgbClr val="8c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29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be796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fd2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be796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e0000"/>
                  </a:gs>
                  <a:gs pos="100000">
                    <a:srgbClr val="8c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e0000"/>
                  </a:gs>
                  <a:gs pos="100000">
                    <a:srgbClr val="8c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20000"/>
                  </a:gs>
                  <a:gs pos="100000">
                    <a:srgbClr val="8c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8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c0000"/>
                  </a:gs>
                  <a:gs pos="100000">
                    <a:srgbClr val="7a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6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c1f00"/>
                </a:gs>
                <a:gs pos="100000">
                  <a:srgbClr val="8c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dfd293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A16CF-C5A7-4364-9EB8-037D0058EA6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dfd293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be796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dfd293"/>
                </a:solidFill>
                <a:latin typeface="Garamond"/>
              </a:rPr>
              <a:t>Monday, February 9</a:t>
            </a:r>
            <a:endParaRPr b="1" lang="en-US" sz="60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838080" y="2057400"/>
            <a:ext cx="74678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An isosceles triangle has two legs of 48cm each and a base of 81cm.  Find the three angles in this triangle.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dfd293"/>
                </a:solidFill>
                <a:latin typeface="Garamond"/>
              </a:rPr>
              <a:t>Homework:</a:t>
            </a:r>
            <a:br>
              <a:rPr sz="6500"/>
            </a:br>
            <a:br>
              <a:rPr sz="6500"/>
            </a:br>
            <a:r>
              <a:rPr b="1" lang="en-US" sz="6500" spc="-1" strike="noStrike">
                <a:solidFill>
                  <a:srgbClr val="dfd293"/>
                </a:solidFill>
                <a:latin typeface="Garamond"/>
              </a:rPr>
              <a:t>Page 441 #17-21 odd and 26</a:t>
            </a:r>
            <a:endParaRPr b="1" lang="en-US" sz="6500" spc="-1" strike="noStrike">
              <a:solidFill>
                <a:srgbClr val="dfd293"/>
              </a:solidFill>
              <a:latin typeface="Garamond"/>
            </a:endParaRPr>
          </a:p>
        </p:txBody>
      </p:sp>
    </p:spTree>
  </p:cSld>
  <p:transition>
    <p:push dir="r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36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500" spc="-1" strike="noStrike">
                <a:solidFill>
                  <a:srgbClr val="dfd293"/>
                </a:solidFill>
                <a:latin typeface="Garamond"/>
              </a:rPr>
              <a:t>Lesson 6.2</a:t>
            </a:r>
            <a:br>
              <a:rPr sz="8500"/>
            </a:br>
            <a:r>
              <a:rPr b="1" lang="en-US" sz="8500" spc="-1" strike="noStrike">
                <a:solidFill>
                  <a:srgbClr val="dfd293"/>
                </a:solidFill>
                <a:latin typeface="Garamond"/>
              </a:rPr>
              <a:t>part two</a:t>
            </a:r>
            <a:endParaRPr b="1" lang="en-US" sz="8500" spc="-1" strike="noStrike">
              <a:solidFill>
                <a:srgbClr val="dfd29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dfd293"/>
                </a:solidFill>
                <a:latin typeface="Garamond"/>
              </a:rPr>
              <a:t>Area of Triangles</a:t>
            </a:r>
            <a:endParaRPr b="1" lang="en-US" sz="6500" spc="-1" strike="noStrike">
              <a:solidFill>
                <a:srgbClr val="dfd293"/>
              </a:solidFill>
              <a:latin typeface="Garamond"/>
            </a:endParaRPr>
          </a:p>
        </p:txBody>
      </p:sp>
    </p:spTree>
  </p:cSld>
  <p:transition>
    <p:split dir="in" orient="vert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fd293"/>
                </a:solidFill>
                <a:latin typeface="Garamond"/>
              </a:rPr>
              <a:t>We should all know the basic formula to find the area of a triangle             </a:t>
            </a:r>
            <a:r>
              <a:rPr b="1" i="1" lang="en-US" sz="5000" spc="-1" strike="noStrike">
                <a:solidFill>
                  <a:srgbClr val="dfd293"/>
                </a:solidFill>
                <a:latin typeface="Garamond"/>
              </a:rPr>
              <a:t>(Area = ½ x base x height)</a:t>
            </a:r>
            <a:endParaRPr b="1" lang="en-US" sz="50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295280" y="3809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Garamond"/>
              </a:rPr>
              <a:t>But that formula does not work in most cases.</a:t>
            </a:r>
            <a:endParaRPr b="0" lang="en-US" sz="45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ipe dir="d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898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898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212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fd293"/>
                </a:solidFill>
                <a:latin typeface="Garamond"/>
              </a:rPr>
              <a:t>When you are given the case of SAS (two sides and the angle between them)…</a:t>
            </a:r>
            <a:endParaRPr b="1" lang="en-US" sz="5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09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Garamond"/>
              </a:rPr>
              <a:t>Use the appropriate oblique triangle formula</a:t>
            </a:r>
            <a:endParaRPr b="0" lang="en-US" sz="45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293"/>
                </a:solidFill>
                <a:latin typeface="Garamond"/>
              </a:rPr>
              <a:t>Find the area of each triangle:</a:t>
            </a: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 = 25, c = 12 and A = 46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 = 112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 a = 16 and b = 38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d293"/>
                </a:solidFill>
                <a:latin typeface="Garamond"/>
              </a:rPr>
              <a:t>Find the area of a triangle where       b = 16, c = 40 and C = 71</a:t>
            </a:r>
            <a:r>
              <a:rPr b="1" lang="en-US" sz="4000" spc="-1" strike="noStrike">
                <a:solidFill>
                  <a:srgbClr val="dfd293"/>
                </a:solidFill>
                <a:latin typeface="Symbol"/>
                <a:ea typeface="Symbol"/>
              </a:rPr>
              <a:t></a:t>
            </a:r>
            <a:endParaRPr b="1" lang="en-US" sz="4000" spc="-1" strike="noStrike">
              <a:solidFill>
                <a:srgbClr val="dfd293"/>
              </a:solidFill>
              <a:latin typeface="Garamond"/>
            </a:endParaRPr>
          </a:p>
        </p:txBody>
      </p:sp>
    </p:spTree>
  </p:cSld>
  <p:transition>
    <p:wipe dir="d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898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fd293"/>
                </a:solidFill>
                <a:latin typeface="Garamond"/>
              </a:rPr>
              <a:t>If you know SSS (three sides of a triangle), find the area by using Heron’s Formula</a:t>
            </a:r>
            <a:endParaRPr b="1" lang="en-US" sz="5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Note you must first find the value of “s” for this formul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S=(a+b+c)/2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ipe dir="d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898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898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898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293"/>
                </a:solidFill>
                <a:latin typeface="Garamond"/>
              </a:rPr>
              <a:t>Find the area:</a:t>
            </a: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= 16, b = 24, c = 31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= 120, b = 202, c = 306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split dir="in" orient="vert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1T12:51:58Z</dcterms:created>
  <dc:creator>jnewman</dc:creator>
  <dc:description/>
  <dc:language>en-US</dc:language>
  <cp:lastModifiedBy>abeason</cp:lastModifiedBy>
  <dcterms:modified xsi:type="dcterms:W3CDTF">2009-02-09T15:10:44Z</dcterms:modified>
  <cp:revision>5</cp:revision>
  <dc:subject/>
  <dc:title>Lesson 6.2 part two</dc:title>
</cp:coreProperties>
</file>